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08B4-2ED7-47C0-AC45-F0362CB7E19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PA is an agency of the United States Department of Defense responsible for the new technology development for use by the military.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initial purpose is to find ways to address the US military’s concern about survivability of their communication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 1970s ARPANET became the foundation of today’s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Vinton Cerf and Robert Kahn developed the first description of TCP during 1973, and then in May 1974 the first formal description was publis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D4D-6A68-4968-8EFF-0BB24D26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32F0-80F5-4D07-B276-36AC0603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21D-FAA1-4DB5-A848-81F2ABF2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2D4-ACFE-4BFB-A5A9-AF7BF170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42AA-CF1E-4715-87EB-CFAFBF80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AD7A-D2BC-4AB7-B9A1-1783CE8A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105F-1337-46C0-BA32-8A6B0977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9962-0268-422F-936A-DB834382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7DF2-8324-43D1-94BC-FE0552D3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45D4-D316-4319-B2E6-9D74E925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A2C0-D985-4BAE-9180-98AB9D24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2F5-CD76-46D7-8AF9-0C3A5CF1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79F8-E8BB-426E-842A-8F63B3EB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3111-4F7E-4F71-B9D8-3D1F1ED7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68B4-56B2-480E-866D-CFC2C985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96AD-0B5B-4262-AB49-B9AC3CCE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5DD6-F1F3-4823-907B-DF74420D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DE97-37D9-4EA9-BD3B-A784CF2B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F47-F6B3-434C-8D38-5456036F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A14-ED76-4E06-933F-06D1394F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6F7-3F2E-4371-9F58-12D4AA7D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40C-5D2D-44EC-8E32-8D861F14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767-39B3-4830-A3BF-65DC4AEF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BB5-C2AA-4A97-9967-8C556E7C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3750-FA74-4751-9D8C-32EE2DA00E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38AD-7FC1-4240-B614-3A302CF0E82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1" lang="en-US" sz="5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Pablo, Duy and Ta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94C3-35C2-40E1-AFA6-6698BFE5EF55}" type="datetime">
              <a:rPr b="0" lang="en-US" sz="2800" spc="-1" strike="noStrike">
                <a:solidFill>
                  <a:srgbClr val="006666"/>
                </a:solidFill>
                <a:latin typeface="Arial"/>
              </a:rPr>
              <a:t>07/29/26</a:t>
            </a:fld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71640" y="3716280"/>
            <a:ext cx="65419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NK YOU FOR LISTENING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.=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51600" y="0"/>
            <a:ext cx="29131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net Int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PA (Advanced Research Project Agenc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undation of 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PA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(Transmission Control Protoco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ne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Introd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rn u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imp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rn 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CCOU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E-COMMER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ou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ccounting descri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Old meth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Use of computer and internet in Accou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What is Account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nd-done Accou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Computerise Accou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E-Commer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0:15:27Z</dcterms:created>
  <dc:creator>Microsoft</dc:creator>
  <dc:description/>
  <dc:language>en-US</dc:language>
  <cp:lastModifiedBy>Test User</cp:lastModifiedBy>
  <dcterms:modified xsi:type="dcterms:W3CDTF">2010-05-21T01:05:49Z</dcterms:modified>
  <cp:revision>17</cp:revision>
  <dc:subject/>
  <dc:title>Internet</dc:title>
</cp:coreProperties>
</file>